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BA1-967E-493B-A353-D203E9C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8B4-2436-4E10-A5B3-0CFF61EF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4F7-4174-43D2-8625-1B74930F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29D-B85F-4454-9378-AA4DC5ED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E91-7521-4440-B6A2-416E59A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F8E-0AD7-4D29-A9D3-AC792A3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169-82CA-4A50-93A4-97322572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532-6A24-4885-A5D5-77941647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1DB-B82B-4CA4-B89D-96AE8EA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252-7851-421B-8B76-6E6C2D4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9C9-F269-4E10-BFAE-0222246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674-9BBF-4764-B457-683B52C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D852-FEBB-4355-8F33-68AF4ECDC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76640"/>
            <a:ext cx="4788000" cy="228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عظم </a:t>
            </a:r>
            <a:br>
              <a:rPr sz="9600"/>
            </a:b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جدك يا إيلي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7280" y="0"/>
            <a:ext cx="507672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َ الَّذِي أَقَمْتَ مَيْتاً مِنَ الْمَوْت، وَمِنَ الْجَحِيمِ بكَلامِ الْعَلِ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084640"/>
            <a:ext cx="806472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184720"/>
            <a:ext cx="784836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خُطِفْتَ في عَاصِفَةٍ مِنَ النَّار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3960" y="5157720"/>
            <a:ext cx="1046160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مَركَبَةِ خَيْلٍ نَارِيَّةٍ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157720"/>
            <a:ext cx="532764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ُوبَى لِمَن عَايَنكَ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794960" y="5327640"/>
            <a:ext cx="12645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لِمَنْ حَازَ فَخْرَ مَصَافَاتِكَ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20:07:21Z</dcterms:created>
  <dc:creator>Charbel Azar</dc:creator>
  <dc:description/>
  <dc:language>en-US</dc:language>
  <cp:lastModifiedBy>-</cp:lastModifiedBy>
  <dcterms:modified xsi:type="dcterms:W3CDTF">2002-12-20T08:21:02Z</dcterms:modified>
  <cp:revision>23</cp:revision>
  <dc:subject/>
  <dc:title>Slide 1</dc:title>
</cp:coreProperties>
</file>